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34A0-F87D-4114-B2BA-1D131D0F8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C87F-8528-4361-BCE5-30BBE839F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98C9-6D2D-4EAC-A229-1AD3A217C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62A7-E7B3-431C-A685-AF4F052B0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CBB3-EAB9-43BA-A875-A86A5F696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7077-C104-4909-8A1F-283B2444C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2065-9203-4711-BA69-FC2ACE4F2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02A6-B877-4DDE-A4CE-5C56090D9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A90D-0CB5-441C-A88B-4287AFC35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32C8-4927-4992-94B9-D97016A6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6463-746B-4E73-A47C-DA008E1B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F8F2-0A1F-4061-820D-F2E49E9C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D5CDE-E6BF-4FCF-BB93-E7A140342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ing Presi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95280" y="3505320"/>
            <a:ext cx="64771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raham Lincol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rn in a log cab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 by Joh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kes Boo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ll him honest Ab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rge Washing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 the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the first presi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16:51:49Z</dcterms:created>
  <dc:creator>smuser</dc:creator>
  <dc:description/>
  <dc:language>en-US</dc:language>
  <cp:lastModifiedBy>smuser</cp:lastModifiedBy>
  <dcterms:modified xsi:type="dcterms:W3CDTF">2010-02-04T18:49:39Z</dcterms:modified>
  <cp:revision>3</cp:revision>
  <dc:subject/>
  <dc:title>Comparing Presidents</dc:title>
</cp:coreProperties>
</file>